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8.wmf" ContentType="image/x-wmf"/>
  <Override PartName="/ppt/media/image5.jpeg" ContentType="image/jpeg"/>
  <Override PartName="/ppt/media/image4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5.wmf" ContentType="image/x-wmf"/>
  <Override PartName="/ppt/media/image27.wmf" ContentType="image/x-wmf"/>
  <Override PartName="/ppt/media/image16.jpeg" ContentType="image/jpeg"/>
  <Override PartName="/ppt/media/image24.wmf" ContentType="image/x-wmf"/>
  <Override PartName="/ppt/media/image22.wmf" ContentType="image/x-wmf"/>
  <Override PartName="/ppt/media/image20.jpeg" ContentType="image/jpeg"/>
  <Override PartName="/ppt/media/image29.wmf" ContentType="image/x-wmf"/>
  <Override PartName="/ppt/media/image19.jpeg" ContentType="image/jpeg"/>
  <Override PartName="/ppt/media/image1.jpeg" ContentType="image/jpeg"/>
  <Override PartName="/ppt/media/image21.wmf" ContentType="image/x-wmf"/>
  <Override PartName="/ppt/media/image18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F325-95BB-43B8-96CB-D32CCFB136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D185-E8BA-4B95-8A52-302FA0A0117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6DCD-EA34-4BFC-A968-81676A5D08F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1AD4-241C-4DA0-87E2-604D1A7C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2FF1-F60E-4924-A924-5E88C999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7BE8-8CF8-4FF0-AC81-B989643E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3FC1-98CE-486D-AB46-09F16CEB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81CD-2E91-4095-AF28-34F4E264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0DA0-81A0-4CF6-8F85-F552BD65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1A55-E88C-474B-9853-DFA3F631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2155-C7B4-47BC-A909-096D0C71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4AD2-AF26-4D1D-85E1-AA60D113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ADAA-9C6C-4A75-9D1A-38BFD1BA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6512-4D46-4F87-BCD9-3E3E9880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BC85-985F-4E02-BE98-AAB264F4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04C9-1E9F-4C9D-8F76-A7829F40A34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com/imgres?imgurl=http://www.landscaping-ideas.net/images/vegetable%20garden.jpg&amp;imgrefurl=http://gardengist.blogspot.com/2006_03_01_archive.html&amp;usg=__d7Ooj4J5YeeAEXs6wJ88rvp_nSE=&amp;h=344&amp;w=272&amp;sz=32&amp;hl=en&amp;start=6&amp;sig2=IIUGE-LfAssfePUdpU0hoQ&amp;um=1&amp;tbnid=bIOXjfpwXote9M:&amp;tbnh=120&amp;tbnw=95&amp;prev=/images?q=vegetable+garden&amp;hl=en&amp;rls=com.microsoft:*:IE-SearchBox&amp;rlz=1I7ADBS&amp;um=1&amp;ei=HmFCSrDHO4iitgOfwozMDw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andscaping-ideas.net/images/vegetable%20garden.jpg&amp;imgrefurl=http://gardengist.blogspot.com/2006_03_01_archive.html&amp;usg=__d7Ooj4J5YeeAEXs6wJ88rvp_nSE=&amp;h=344&amp;w=272&amp;sz=32&amp;hl=en&amp;start=6&amp;sig2=IIUGE-LfAssfePUdpU0hoQ&amp;um=1&amp;tbnid=bIOXjfpwXote9M:&amp;tbnh=120&amp;tbnw=95&amp;prev=/images?q=vegetable+garden&amp;hl=en&amp;rls=com.microsoft:*:IE-SearchBox&amp;rlz=1I7ADBS&amp;um=1&amp;ei=HmFCSrDHO4iitgOfwozMDw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://images.google.com/imgres?imgurl=http://www.delawareonline.com/blogs/secondhelpings/uploaded_images/turkey-778333.jpg&amp;imgrefurl=http://www.delawareonline.com/blogs/secondhelpings/labels/Wilmington%20dining.html&amp;usg=__RavWDXKWkbF4Ue4Oe3qGCqqLxeY=&amp;h=369&amp;w=400&amp;sz=26&amp;hl=en&amp;start=6&amp;sig2=Ql21AOsC1Pwr89xVl_Ms3Q&amp;um=1&amp;tbnid=7KLwcTfUqreAsM:&amp;tbnh=114&amp;tbnw=124&amp;prev=/images?q=turkey&amp;hl=en&amp;rls=com.microsoft:*:IE-SearchBox&amp;rlz=1I7ADBS&amp;um=1&amp;ei=12FCSqqoCZ7oswPFpKDMDw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images.google.com/imgres?imgurl=http://www.delawareonline.com/blogs/secondhelpings/uploaded_images/turkey-778333.jpg&amp;imgrefurl=http://www.delawareonline.com/blogs/secondhelpings/labels/Wilmington%20dining.html&amp;usg=__RavWDXKWkbF4Ue4Oe3qGCqqLxeY=&amp;h=369&amp;w=400&amp;sz=26&amp;hl=en&amp;start=6&amp;sig2=Ql21AOsC1Pwr89xVl_Ms3Q&amp;um=1&amp;tbnid=7KLwcTfUqreAsM:&amp;tbnh=114&amp;tbnw=124&amp;prev=/images?q=turkey&amp;hl=en&amp;rls=com.microsoft:*:IE-SearchBox&amp;rlz=1I7ADBS&amp;um=1&amp;ei=12FCSqqoCZ7oswPFpKDMDw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elawareonline.com/blogs/secondhelpings/uploaded_images/turkey-778333.jpg&amp;imgrefurl=http://www.delawareonline.com/blogs/secondhelpings/labels/Wilmington%20dining.html&amp;usg=__RavWDXKWkbF4Ue4Oe3qGCqqLxeY=&amp;h=369&amp;w=400&amp;sz=26&amp;hl=en&amp;start=6&amp;sig2=Ql21AOsC1Pwr89xVl_Ms3Q&amp;um=1&amp;tbnid=7KLwcTfUqreAsM:&amp;tbnh=114&amp;tbnw=124&amp;prev=/images?q=turkey&amp;hl=en&amp;rls=com.microsoft:*:IE-SearchBox&amp;rlz=1I7ADBS&amp;um=1&amp;ei=12FCSqqoCZ7oswPFpKDMDw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hyperlink" Target="http://images.google.com/imgres?imgurl=http://www.bibleplaces.com/images/Qumran_Cave_4_interior_51-31tb_wr.jpg&amp;imgrefurl=http://www.bibleplaces.com/qumrancaves.htm&amp;usg=__JDxav0i7onl3ob1E6X1s7XkOkVE=&amp;h=301&amp;w=400&amp;sz=23&amp;hl=en&amp;start=5&amp;sig2=5_6zhbJC--1qJw3q_pgySg&amp;um=1&amp;tbnid=0g3uXvWI0AUY3M:&amp;tbnh=93&amp;tbnw=124&amp;prev=/images?q=cave&amp;hl=en&amp;rls=com.microsoft:*:IE-SearchBox&amp;rlz=1I7ADBS&amp;um=1&amp;ei=X2JCSo_bK4_stgOnsaSsCQ" TargetMode="Externa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wmf"/><Relationship Id="rId11" Type="http://schemas.openxmlformats.org/officeDocument/2006/relationships/image" Target="../media/image29.wmf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com/imgres?imgurl=http://www.landscaping-ideas.net/images/vegetable%20garden.jpg&amp;imgrefurl=http://gardengist.blogspot.com/2006_03_01_archive.html&amp;usg=__d7Ooj4J5YeeAEXs6wJ88rvp_nSE=&amp;h=344&amp;w=272&amp;sz=32&amp;hl=en&amp;start=6&amp;sig2=IIUGE-LfAssfePUdpU0hoQ&amp;um=1&amp;tbnid=bIOXjfpwXote9M:&amp;tbnh=120&amp;tbnw=95&amp;prev=/images?q=vegetable+garden&amp;hl=en&amp;rls=com.microsoft:*:IE-SearchBox&amp;rlz=1I7ADBS&amp;um=1&amp;ei=HmFCSrDHO4iitgOfwozMDw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685800" y="-31680"/>
            <a:ext cx="1117908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tch And Learn: Chicken Litt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810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T Created by Lindsey Mads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2" descr="C:\Users\Daniel\AppData\Local\Microsoft\Windows\Temporary Internet Files\Content.IE5\82P6XMA5\MCj04363780000[1].png"/>
          <p:cNvPicPr/>
          <p:nvPr/>
        </p:nvPicPr>
        <p:blipFill>
          <a:blip r:embed="rId2"/>
          <a:stretch/>
        </p:blipFill>
        <p:spPr>
          <a:xfrm>
            <a:off x="4572000" y="26668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6400800" y="533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xiǎojī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6553080" y="19810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3581280" y="6094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ī-ge yuánzi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Picture 7" descr="http://tbn3.google.com/images?q=tbn:bIOXjfpwXote9M:http://www.landscaping-ideas.net/images/vegetable%2520garde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81280" y="1600200"/>
            <a:ext cx="2286000" cy="28875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380880" y="609480"/>
            <a:ext cx="25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yāzi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Picture 2" descr="C:\Users\Daniel\AppData\Local\Microsoft\Windows\Temporary Internet Files\Content.IE5\82P6XMA5\MPPH03935I0000[1].jpg"/>
          <p:cNvPicPr/>
          <p:nvPr/>
        </p:nvPicPr>
        <p:blipFill>
          <a:blip r:embed="rId4"/>
          <a:stretch/>
        </p:blipFill>
        <p:spPr>
          <a:xfrm>
            <a:off x="152280" y="2057400"/>
            <a:ext cx="2845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3352680" y="9907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ī-ge yuánzi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7" descr="http://tbn3.google.com/images?q=tbn:bIOXjfpwXote9M:http://www.landscaping-ideas.net/images/vegetable%2520garde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1752480"/>
            <a:ext cx="2590920" cy="32720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380880" y="609480"/>
            <a:ext cx="259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yāzi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2" descr="C:\Users\Daniel\AppData\Local\Microsoft\Windows\Temporary Internet Files\Content.IE5\82P6XMA5\MPPH03935I0000[1].jpg"/>
          <p:cNvPicPr/>
          <p:nvPr/>
        </p:nvPicPr>
        <p:blipFill>
          <a:blip r:embed="rId3"/>
          <a:stretch/>
        </p:blipFill>
        <p:spPr>
          <a:xfrm>
            <a:off x="152280" y="2057400"/>
            <a:ext cx="2845080" cy="2133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6324480" y="9144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é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3" descr="C:\Users\Daniel\AppData\Local\Microsoft\Windows\Temporary Internet Files\Content.IE5\82P6XMA5\MPPH03461I0000[1].jpg"/>
          <p:cNvPicPr/>
          <p:nvPr/>
        </p:nvPicPr>
        <p:blipFill>
          <a:blip r:embed="rId4"/>
          <a:stretch/>
        </p:blipFill>
        <p:spPr>
          <a:xfrm>
            <a:off x="6248520" y="2286000"/>
            <a:ext cx="2468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380880" y="121932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yāzi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2" descr="C:\Users\Daniel\AppData\Local\Microsoft\Windows\Temporary Internet Files\Content.IE5\82P6XMA5\MPPH03935I0000[1].jpg"/>
          <p:cNvPicPr/>
          <p:nvPr/>
        </p:nvPicPr>
        <p:blipFill>
          <a:blip r:embed="rId1"/>
          <a:stretch/>
        </p:blipFill>
        <p:spPr>
          <a:xfrm>
            <a:off x="152280" y="2057400"/>
            <a:ext cx="2845080" cy="2133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6400800" y="114300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é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" name="Picture 3" descr="C:\Users\Daniel\AppData\Local\Microsoft\Windows\Temporary Internet Files\Content.IE5\82P6XMA5\MPPH03461I0000[1].jpg"/>
          <p:cNvPicPr/>
          <p:nvPr/>
        </p:nvPicPr>
        <p:blipFill>
          <a:blip r:embed="rId2"/>
          <a:stretch/>
        </p:blipFill>
        <p:spPr>
          <a:xfrm>
            <a:off x="6172200" y="1905120"/>
            <a:ext cx="2468520" cy="36576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3276720" y="762120"/>
            <a:ext cx="259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huǒj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2" descr="http://tbn0.google.com/images?q=tbn:7KLwcTfUqreAsM:http://www.delawareonline.com/blogs/secondhelpings/uploaded_images/turkey-77833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2209680"/>
            <a:ext cx="2320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6400800" y="106668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é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3" descr="C:\Users\Daniel\AppData\Local\Microsoft\Windows\Temporary Internet Files\Content.IE5\82P6XMA5\MPPH03461I0000[1].jpg"/>
          <p:cNvPicPr/>
          <p:nvPr/>
        </p:nvPicPr>
        <p:blipFill>
          <a:blip r:embed="rId1"/>
          <a:stretch/>
        </p:blipFill>
        <p:spPr>
          <a:xfrm>
            <a:off x="6248520" y="2286000"/>
            <a:ext cx="2468520" cy="36576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3505320" y="533520"/>
            <a:ext cx="259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huǒj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Picture 2" descr="http://tbn0.google.com/images?q=tbn:7KLwcTfUqreAsM:http://www.delawareonline.com/blogs/secondhelpings/uploaded_images/turkey-77833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2209680"/>
            <a:ext cx="2320920" cy="21337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457200" y="990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húli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2" descr="C:\Users\Daniel\AppData\Local\Microsoft\Windows\Temporary Internet Files\Content.IE5\E6PXQTG7\MPj02625380000[1].jpg"/>
          <p:cNvPicPr/>
          <p:nvPr/>
        </p:nvPicPr>
        <p:blipFill>
          <a:blip r:embed="rId4"/>
          <a:srcRect l="25000" t="0" r="0" b="0"/>
          <a:stretch/>
        </p:blipFill>
        <p:spPr>
          <a:xfrm>
            <a:off x="457200" y="2209680"/>
            <a:ext cx="2743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3124080" y="152280"/>
            <a:ext cx="25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huǒj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Picture 2" descr="http://tbn0.google.com/images?q=tbn:7KLwcTfUqreAsM:http://www.delawareonline.com/blogs/secondhelpings/uploaded_images/turkey-77833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209680"/>
            <a:ext cx="2320920" cy="21337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457200" y="685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húli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4" name="Picture 2" descr="C:\Users\Daniel\AppData\Local\Microsoft\Windows\Temporary Internet Files\Content.IE5\E6PXQTG7\MPj02625380000[1].jpg"/>
          <p:cNvPicPr/>
          <p:nvPr/>
        </p:nvPicPr>
        <p:blipFill>
          <a:blip r:embed="rId3"/>
          <a:srcRect l="25000" t="0" r="0" b="0"/>
          <a:stretch/>
        </p:blipFill>
        <p:spPr>
          <a:xfrm>
            <a:off x="457200" y="2209680"/>
            <a:ext cx="2743200" cy="24386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5715000" y="6094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ī-ge dòng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12" descr="http://tbn2.google.com/images?q=tbn:0g3uXvWI0AUY3M:http://www.bibleplaces.com/images/Qumran_Cave_4_interior_51-31tb_wr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3600" y="25146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Users\Daniel\AppData\Local\Microsoft\Windows\Temporary Internet Files\Content.IE5\E6PXQTG7\MPj02625380000[1].jpg"/>
          <p:cNvPicPr/>
          <p:nvPr/>
        </p:nvPicPr>
        <p:blipFill>
          <a:blip r:embed="rId1"/>
          <a:srcRect l="25000" t="0" r="0" b="0"/>
          <a:stretch/>
        </p:blipFill>
        <p:spPr>
          <a:xfrm>
            <a:off x="457200" y="2209680"/>
            <a:ext cx="2743200" cy="24386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"/>
          <p:cNvSpPr/>
          <p:nvPr/>
        </p:nvSpPr>
        <p:spPr>
          <a:xfrm>
            <a:off x="457200" y="685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húli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6019920" y="8380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ī-ge dòng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Picture 12" descr="http://tbn2.google.com/images?q=tbn:0g3uXvWI0AUY3M:http://www.bibleplaces.com/images/Qumran_Cave_4_interior_51-31tb_wr.jpg"/>
          <p:cNvPicPr/>
          <p:nvPr/>
        </p:nvPicPr>
        <p:blipFill>
          <a:blip r:embed="rId2"/>
          <a:stretch/>
        </p:blipFill>
        <p:spPr>
          <a:xfrm>
            <a:off x="5943600" y="251460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3200400" y="762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òngwù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32" name="Group 16"/>
          <p:cNvGrpSpPr/>
          <p:nvPr/>
        </p:nvGrpSpPr>
        <p:grpSpPr>
          <a:xfrm>
            <a:off x="3048120" y="1905120"/>
            <a:ext cx="2809800" cy="2819160"/>
            <a:chOff x="3048120" y="1905120"/>
            <a:chExt cx="2809800" cy="2819160"/>
          </a:xfrm>
        </p:grpSpPr>
        <p:pic>
          <p:nvPicPr>
            <p:cNvPr id="133" name="Picture 2" descr="C:\Users\Daniel\AppData\Local\Microsoft\Windows\Temporary Internet Files\Content.IE5\82P6XMA5\MCj04414190000[1].wmf"/>
            <p:cNvPicPr/>
            <p:nvPr/>
          </p:nvPicPr>
          <p:blipFill>
            <a:blip r:embed="rId3"/>
            <a:stretch/>
          </p:blipFill>
          <p:spPr>
            <a:xfrm>
              <a:off x="5091840" y="3206160"/>
              <a:ext cx="766080" cy="105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" descr="C:\Users\Daniel\AppData\Local\Microsoft\Windows\Temporary Internet Files\Content.IE5\M83SO2KY\MCj04414170000[1].wmf"/>
            <p:cNvPicPr/>
            <p:nvPr/>
          </p:nvPicPr>
          <p:blipFill>
            <a:blip r:embed="rId4"/>
            <a:stretch/>
          </p:blipFill>
          <p:spPr>
            <a:xfrm>
              <a:off x="4809960" y="2483280"/>
              <a:ext cx="970200" cy="56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C:\Users\Daniel\AppData\Local\Microsoft\Windows\Temporary Internet Files\Content.IE5\JV6OP3XZ\MCj04414150000[1].wmf"/>
            <p:cNvPicPr/>
            <p:nvPr/>
          </p:nvPicPr>
          <p:blipFill>
            <a:blip r:embed="rId5"/>
            <a:stretch/>
          </p:blipFill>
          <p:spPr>
            <a:xfrm>
              <a:off x="4598280" y="2772360"/>
              <a:ext cx="81324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6" descr="C:\Users\Daniel\AppData\Local\Microsoft\Windows\Temporary Internet Files\Content.IE5\82P6XMA5\MCj04414130000[1].wmf"/>
            <p:cNvPicPr/>
            <p:nvPr/>
          </p:nvPicPr>
          <p:blipFill>
            <a:blip r:embed="rId6"/>
            <a:stretch/>
          </p:blipFill>
          <p:spPr>
            <a:xfrm>
              <a:off x="4668840" y="4001400"/>
              <a:ext cx="769320" cy="70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7" descr="C:\Users\Daniel\AppData\Local\Microsoft\Windows\Temporary Internet Files\Content.IE5\E6PXQTG7\MCj04414090000[1].wmf"/>
            <p:cNvPicPr/>
            <p:nvPr/>
          </p:nvPicPr>
          <p:blipFill>
            <a:blip r:embed="rId7"/>
            <a:stretch/>
          </p:blipFill>
          <p:spPr>
            <a:xfrm flipH="1" rot="193800">
              <a:off x="3975120" y="2937960"/>
              <a:ext cx="767520" cy="44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8" descr="C:\Users\Daniel\AppData\Local\Microsoft\Windows\Temporary Internet Files\Content.IE5\M83SO2KY\MCj04414070000[1].wmf"/>
            <p:cNvPicPr/>
            <p:nvPr/>
          </p:nvPicPr>
          <p:blipFill>
            <a:blip r:embed="rId8"/>
            <a:stretch/>
          </p:blipFill>
          <p:spPr>
            <a:xfrm>
              <a:off x="3752640" y="2194200"/>
              <a:ext cx="167940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9" descr="C:\Users\Daniel\AppData\Local\Microsoft\Windows\Temporary Internet Files\Content.IE5\JV6OP3XZ\MCj04414050000[1].wmf"/>
            <p:cNvPicPr/>
            <p:nvPr/>
          </p:nvPicPr>
          <p:blipFill>
            <a:blip r:embed="rId9"/>
            <a:stretch/>
          </p:blipFill>
          <p:spPr>
            <a:xfrm>
              <a:off x="5303160" y="1905120"/>
              <a:ext cx="49284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0" descr="C:\Users\Daniel\AppData\Local\Microsoft\Windows\Temporary Internet Files\Content.IE5\82P6XMA5\MCj04414030000[1].wmf"/>
            <p:cNvPicPr/>
            <p:nvPr/>
          </p:nvPicPr>
          <p:blipFill>
            <a:blip r:embed="rId10"/>
            <a:stretch/>
          </p:blipFill>
          <p:spPr>
            <a:xfrm flipH="1">
              <a:off x="4598280" y="3423240"/>
              <a:ext cx="563760" cy="95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1" descr="C:\Users\Daniel\AppData\Local\Microsoft\Windows\Temporary Internet Files\Content.IE5\E6PXQTG7\MCj04413980000[1].wmf"/>
            <p:cNvPicPr/>
            <p:nvPr/>
          </p:nvPicPr>
          <p:blipFill>
            <a:blip r:embed="rId11"/>
            <a:stretch/>
          </p:blipFill>
          <p:spPr>
            <a:xfrm>
              <a:off x="3048120" y="3133800"/>
              <a:ext cx="1656000" cy="15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3200400" y="6094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í-piàn shùyè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2" descr="C:\Documents and Settings\Owner\Local Settings\Temporary Internet Files\Content.IE5\51MFAH64\MPj04373390000[1].jpg"/>
          <p:cNvPicPr/>
          <p:nvPr/>
        </p:nvPicPr>
        <p:blipFill>
          <a:blip r:embed="rId1"/>
          <a:stretch/>
        </p:blipFill>
        <p:spPr>
          <a:xfrm>
            <a:off x="3124080" y="1523880"/>
            <a:ext cx="290844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533520" y="53352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í-piàn shùyè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809880" y="5335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í-piàn hěn dà de shùyè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2" descr="C:\Documents and Settings\Owner\Local Settings\Temporary Internet Files\Content.IE5\51MFAH64\MPj04373390000[1].jpg"/>
          <p:cNvPicPr/>
          <p:nvPr/>
        </p:nvPicPr>
        <p:blipFill>
          <a:blip r:embed="rId1"/>
          <a:stretch/>
        </p:blipFill>
        <p:spPr>
          <a:xfrm>
            <a:off x="762120" y="1295280"/>
            <a:ext cx="2908080" cy="3489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Owner\Local Settings\Temporary Internet Files\Content.IE5\F2Z1XB8X\MPj04372130000[1].jpg"/>
          <p:cNvPicPr/>
          <p:nvPr/>
        </p:nvPicPr>
        <p:blipFill>
          <a:blip r:embed="rId2"/>
          <a:stretch/>
        </p:blipFill>
        <p:spPr>
          <a:xfrm>
            <a:off x="4724280" y="1371600"/>
            <a:ext cx="35928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í-piàn shùyè         yí-piàn hěn dà de shùyè        yí-kuàr tiān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C:\Documents and Settings\Owner\Local Settings\Temporary Internet Files\Content.IE5\F2Z1XB8X\MPj04372130000[1].jpg"/>
          <p:cNvPicPr/>
          <p:nvPr/>
        </p:nvPicPr>
        <p:blipFill>
          <a:blip r:embed="rId1"/>
          <a:stretch/>
        </p:blipFill>
        <p:spPr>
          <a:xfrm>
            <a:off x="2438280" y="1600200"/>
            <a:ext cx="2340000" cy="2184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Documents and Settings\Owner\Local Settings\Temporary Internet Files\Content.IE5\51MFAH64\MPj04373390000[1].jpg"/>
          <p:cNvPicPr/>
          <p:nvPr/>
        </p:nvPicPr>
        <p:blipFill>
          <a:blip r:embed="rId2"/>
          <a:stretch/>
        </p:blipFill>
        <p:spPr>
          <a:xfrm>
            <a:off x="152280" y="1523880"/>
            <a:ext cx="1994040" cy="2392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Owner\Local Settings\Temporary Internet Files\Content.IE5\IHS6GPE7\MPj04389830000[1].jpg"/>
          <p:cNvPicPr/>
          <p:nvPr/>
        </p:nvPicPr>
        <p:blipFill>
          <a:blip r:embed="rId3"/>
          <a:stretch/>
        </p:blipFill>
        <p:spPr>
          <a:xfrm>
            <a:off x="5257800" y="1600200"/>
            <a:ext cx="3200400" cy="2143080"/>
          </a:xfrm>
          <a:prstGeom prst="rect">
            <a:avLst/>
          </a:prstGeom>
          <a:ln w="0">
            <a:noFill/>
          </a:ln>
        </p:spPr>
      </p:pic>
      <p:sp>
        <p:nvSpPr>
          <p:cNvPr id="62" name="Donut 11"/>
          <p:cNvSpPr/>
          <p:nvPr/>
        </p:nvSpPr>
        <p:spPr>
          <a:xfrm>
            <a:off x="5334120" y="236232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Down Arrow 10"/>
          <p:cNvSpPr/>
          <p:nvPr/>
        </p:nvSpPr>
        <p:spPr>
          <a:xfrm rot="7306800">
            <a:off x="6344280" y="2652840"/>
            <a:ext cx="484200" cy="157176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52280" y="914400"/>
            <a:ext cx="258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í-piàn shùyè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505320" y="838080"/>
            <a:ext cx="27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í-kuàr tiā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6477120" y="762120"/>
            <a:ext cx="289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xiǎojī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6553080" y="19810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Documents and Settings\Owner\Local Settings\Temporary Internet Files\Content.IE5\51MFAH64\MPj04373390000[1].jpg"/>
          <p:cNvPicPr/>
          <p:nvPr/>
        </p:nvPicPr>
        <p:blipFill>
          <a:blip r:embed="rId2"/>
          <a:stretch/>
        </p:blipFill>
        <p:spPr>
          <a:xfrm>
            <a:off x="380880" y="1600200"/>
            <a:ext cx="2590920" cy="3108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Documents and Settings\Owner\Local Settings\Temporary Internet Files\Content.IE5\IHS6GPE7\MPj04389830000[1].jpg"/>
          <p:cNvPicPr/>
          <p:nvPr/>
        </p:nvPicPr>
        <p:blipFill>
          <a:blip r:embed="rId3"/>
          <a:stretch/>
        </p:blipFill>
        <p:spPr>
          <a:xfrm>
            <a:off x="3200400" y="1905120"/>
            <a:ext cx="3200400" cy="2143080"/>
          </a:xfrm>
          <a:prstGeom prst="rect">
            <a:avLst/>
          </a:prstGeom>
          <a:ln w="0">
            <a:noFill/>
          </a:ln>
        </p:spPr>
      </p:pic>
      <p:sp>
        <p:nvSpPr>
          <p:cNvPr id="70" name="Donut 10"/>
          <p:cNvSpPr/>
          <p:nvPr/>
        </p:nvSpPr>
        <p:spPr>
          <a:xfrm>
            <a:off x="3429000" y="304812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152280" y="914400"/>
            <a:ext cx="258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í-piàn hěn dà de shùyè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048120" y="83808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í-kuàr tiā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6477120" y="762120"/>
            <a:ext cx="289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xiǎojī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5638680" y="1905120"/>
            <a:ext cx="2971800" cy="2743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Documents and Settings\Owner\Local Settings\Temporary Internet Files\Content.IE5\IHS6GPE7\MPj04389830000[1].jpg"/>
          <p:cNvPicPr/>
          <p:nvPr/>
        </p:nvPicPr>
        <p:blipFill>
          <a:blip r:embed="rId2"/>
          <a:stretch/>
        </p:blipFill>
        <p:spPr>
          <a:xfrm>
            <a:off x="3429000" y="1981080"/>
            <a:ext cx="2503440" cy="2819520"/>
          </a:xfrm>
          <a:prstGeom prst="rect">
            <a:avLst/>
          </a:prstGeom>
          <a:ln w="0">
            <a:noFill/>
          </a:ln>
        </p:spPr>
      </p:pic>
      <p:sp>
        <p:nvSpPr>
          <p:cNvPr id="76" name="Donut 7"/>
          <p:cNvSpPr/>
          <p:nvPr/>
        </p:nvSpPr>
        <p:spPr>
          <a:xfrm>
            <a:off x="3581280" y="358128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8" descr="C:\Documents and Settings\Owner\Local Settings\Temporary Internet Files\Content.IE5\F2Z1XB8X\MPj04372130000[1].jpg"/>
          <p:cNvPicPr/>
          <p:nvPr/>
        </p:nvPicPr>
        <p:blipFill>
          <a:blip r:embed="rId3"/>
          <a:stretch/>
        </p:blipFill>
        <p:spPr>
          <a:xfrm>
            <a:off x="152280" y="1981080"/>
            <a:ext cx="3021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80880" y="3808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í-piàn shùyè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2" descr="C:\Documents and Settings\Owner\Local Settings\Temporary Internet Files\Content.IE5\51MFAH64\MPj04373390000[1].jpg"/>
          <p:cNvPicPr/>
          <p:nvPr/>
        </p:nvPicPr>
        <p:blipFill>
          <a:blip r:embed="rId1"/>
          <a:stretch/>
        </p:blipFill>
        <p:spPr>
          <a:xfrm>
            <a:off x="228600" y="1219320"/>
            <a:ext cx="2540160" cy="3047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Daniel\AppData\Local\Microsoft\Windows\Temporary Internet Files\Content.IE5\82P6XMA5\MCj04363780000[1].png"/>
          <p:cNvPicPr/>
          <p:nvPr/>
        </p:nvPicPr>
        <p:blipFill>
          <a:blip r:embed="rId2"/>
          <a:stretch/>
        </p:blipFill>
        <p:spPr>
          <a:xfrm>
            <a:off x="3124080" y="1523880"/>
            <a:ext cx="2724120" cy="251460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3684960" y="304920"/>
            <a:ext cx="21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xiǎoj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2" descr="C:\Users\Daniel\AppData\Local\Microsoft\Windows\Temporary Internet Files\Content.IE5\M83SO2KY\MPj04410500000[1].jpg"/>
          <p:cNvPicPr/>
          <p:nvPr/>
        </p:nvPicPr>
        <p:blipFill>
          <a:blip r:embed="rId3"/>
          <a:stretch/>
        </p:blipFill>
        <p:spPr>
          <a:xfrm>
            <a:off x="6629400" y="990720"/>
            <a:ext cx="2209680" cy="3159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0"/>
          <p:cNvSpPr/>
          <p:nvPr/>
        </p:nvSpPr>
        <p:spPr>
          <a:xfrm>
            <a:off x="6400800" y="380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muj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477120" y="762120"/>
            <a:ext cx="289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xiǎojī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6553080" y="19810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393480" y="762120"/>
            <a:ext cx="196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muj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Picture 2" descr="C:\Users\Daniel\AppData\Local\Microsoft\Windows\Temporary Internet Files\Content.IE5\M83SO2KY\MPj04410500000[1].jpg"/>
          <p:cNvPicPr/>
          <p:nvPr/>
        </p:nvPicPr>
        <p:blipFill>
          <a:blip r:embed="rId2"/>
          <a:stretch/>
        </p:blipFill>
        <p:spPr>
          <a:xfrm>
            <a:off x="228600" y="1600200"/>
            <a:ext cx="2835360" cy="35020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2514600" y="838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í-piàn hěn dà de shùyè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3" descr="C:\Documents and Settings\Owner\Local Settings\Temporary Internet Files\Content.IE5\IHS6GPE7\MPj04389830000[1].jpg"/>
          <p:cNvPicPr/>
          <p:nvPr/>
        </p:nvPicPr>
        <p:blipFill>
          <a:blip r:embed="rId3"/>
          <a:stretch/>
        </p:blipFill>
        <p:spPr>
          <a:xfrm>
            <a:off x="2895480" y="2057400"/>
            <a:ext cx="3200400" cy="2143080"/>
          </a:xfrm>
          <a:prstGeom prst="rect">
            <a:avLst/>
          </a:prstGeom>
          <a:ln w="0">
            <a:noFill/>
          </a:ln>
        </p:spPr>
      </p:pic>
      <p:sp>
        <p:nvSpPr>
          <p:cNvPr id="90" name="Donut 8"/>
          <p:cNvSpPr/>
          <p:nvPr/>
        </p:nvSpPr>
        <p:spPr>
          <a:xfrm>
            <a:off x="3048120" y="297180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6477120" y="762120"/>
            <a:ext cx="289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xiǎojī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6553080" y="19810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3124080" y="838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ī-ge yuánzi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7" descr="http://tbn3.google.com/images?q=tbn:bIOXjfpwXote9M:http://www.landscaping-ideas.net/images/vegetable%2520garde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1752480"/>
            <a:ext cx="2590560" cy="3272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Daniel\AppData\Local\Microsoft\Windows\Temporary Internet Files\Content.IE5\M83SO2KY\MPj04410500000[1].jpg"/>
          <p:cNvPicPr/>
          <p:nvPr/>
        </p:nvPicPr>
        <p:blipFill>
          <a:blip r:embed="rId4"/>
          <a:stretch/>
        </p:blipFill>
        <p:spPr>
          <a:xfrm>
            <a:off x="228600" y="1600200"/>
            <a:ext cx="2835360" cy="35020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9"/>
          <p:cNvSpPr/>
          <p:nvPr/>
        </p:nvSpPr>
        <p:spPr>
          <a:xfrm>
            <a:off x="393480" y="83808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muj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5:34:44Z</dcterms:created>
  <dc:creator>Madsens</dc:creator>
  <dc:description/>
  <dc:language>en-US</dc:language>
  <cp:lastModifiedBy>Mark Sabey</cp:lastModifiedBy>
  <dcterms:modified xsi:type="dcterms:W3CDTF">2009-06-26T15:35:09Z</dcterms:modified>
  <cp:revision>15</cp:revision>
  <dc:subject/>
  <dc:title>Slide 1</dc:title>
</cp:coreProperties>
</file>